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33F-E77E-43C2-8DAF-6C8E1A1D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EF3-DA29-429E-BEFE-2DB5657A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735-6B99-4E0D-A4E4-2426EC71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095C-802E-4BCB-AD13-31F52AAB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6D1F-3E72-46FE-9293-87E883ED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C795-6174-4372-9BF7-8DCEF374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D59A-3AB9-47B8-976E-F0B257FB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A1A0-B463-4DC3-B95C-B4D97C6E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6D87-8DDD-41D8-8FB2-450A1816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2790-9843-4DE3-B769-6A73CD9E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72BA-5861-4E52-AD87-5CD9BFF5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1A6-60ED-4C6C-8503-24C9FAB7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4695-DA7F-4BFA-B373-278D18EB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A98A-81C4-40F9-8227-42287EFD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D52F-9394-4607-979D-09D56D83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ABE6-0C2B-4BD4-BB46-D4531B3B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0A67-021C-47D7-B484-C58E8C1A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215-A59C-4D52-8606-C4A0A5B0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F8A0-4DC5-46CA-B949-92A3CE7B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97FF-96F7-43E4-A04B-C0EA6B38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0C4B-DF95-44BC-B56B-4A457ACF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137-DD26-4451-BBF1-D7873096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AD5-3CC2-4594-8BE7-FF46387F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DD1-8831-43EF-A493-7A5CF14C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7C24-DA19-48BD-9494-739FC5FD4BA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3D6B-4BA7-4DD7-AF4D-C4EA256F1CC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omic Sans MS"/>
              </a:rPr>
              <a:t>Opener: Bisect the following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)  A 14 foot long piece of wo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)  A 108 degree an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)  A 25 inch long line seg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)  A right an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Unit 6: Geometry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aw geometric figures using a variety of too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here to begin…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ruction -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tractor 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9900"/>
                </a:solidFill>
                <a:latin typeface="Verdana"/>
              </a:rPr>
              <a:t>What information would you need to create a triangle in terms of angles and sides?  Do you really need to know all 3 angles and side lengths to create a triangl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Angle-Side-Angl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is type of construction, you are provided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wo angle measur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ength of one sid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your triangl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, draw the s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, create one angle on the le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, create the other angle on the r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wo sides are created where they inters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365760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441972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533412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662940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00440" y="4190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867280" y="3352680"/>
            <a:ext cx="2133720" cy="1067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553080" y="4267080"/>
            <a:ext cx="21337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1532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7162920" y="4571640"/>
            <a:ext cx="1752480" cy="762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629400" y="6095880"/>
            <a:ext cx="10666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695720" y="6095880"/>
            <a:ext cx="12956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ngle-Side-Angle 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’s apply these steps to the following clues: 4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°, 103° and a side that’s 3 inches lo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ractor Work W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dd Numbered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08:12Z</dcterms:created>
  <dc:creator>TAMMY  COON</dc:creator>
  <dc:description/>
  <dc:language>en-US</dc:language>
  <cp:lastModifiedBy>demcgra</cp:lastModifiedBy>
  <dcterms:modified xsi:type="dcterms:W3CDTF">2012-02-01T12:50:07Z</dcterms:modified>
  <cp:revision>17</cp:revision>
  <dc:subject/>
  <dc:title>Unit 6: Geometry</dc:title>
</cp:coreProperties>
</file>